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DF8-4E49-41D0-93C0-2B982396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6B64-00CB-4ECC-BD90-2EA8A621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668-BED1-4A75-AEFA-A19833CD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D46D-3139-468E-9213-46724407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8437-3C7E-40F2-AD74-314B471B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148B-C78D-41B7-947C-1AFBE5EF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DAE2-B4DB-45BA-B330-2297C41E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8940-1C45-429F-B19E-B78271E0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DFAB-4D74-444E-98B1-D00C520F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1F5F-0952-4D5C-B491-AC9286F7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D96A-F6AF-4716-9372-28777808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A10-1899-4DA4-8DD5-94C59866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F1EE-A0FF-41E8-A78A-82CC5184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3B6E-3827-4E19-A2DD-2D595EA3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BB20-DF9D-4CA6-AEFD-85A8C6D8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652B-3FCC-4EB0-8D33-714DA529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096B-4735-40CB-A0EB-B0E03434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0FB-3797-4F94-B6C4-9EE60094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A26-889E-4666-96D0-CFD0EE3F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B2A-E19B-4795-8951-D90E2E58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C8E-B395-42A5-A144-3BA688D8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1F9-0CD8-4631-8D33-389329A1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2EE-2234-47AA-872B-3265409A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F6E-896B-4613-BEC8-9030B016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D190-7ED4-43A3-B29E-42F3E6EF1162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2B0B-5B10-4DD5-8D89-B68802BA47F5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SI</a:t>
            </a:r>
            <a:r>
              <a:rPr b="0" lang="lt-LT" sz="4200" spc="-1" strike="noStrike">
                <a:solidFill>
                  <a:srgbClr val="330033"/>
                </a:solidFill>
                <a:latin typeface="Times New Roman"/>
              </a:rPr>
              <a:t>CHOLOGIJOS ĮVAD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okt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a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1593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13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54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40000" y="404640"/>
            <a:ext cx="63468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ohn Watso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Psichologija biheivioristo požiūriu“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IVEIVIOR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braham Maslow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Motyvacija ir asmenybė”.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rl Roger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HUMAN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ktor Frank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laikomas egzistencinės psichologijos pradinin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GZISTENCIAL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os raida Lietuvoje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6m. – VPU prad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ėta ruošti psichologus (katedros vadovas A.Guč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9m. – V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3m. – specialiosios psichologijos laborator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m. – Lietuvos psicholog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ų sąjung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APIBRĖŽIMAS IR OBJEKTAS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mokslas, tiriantis psichikos faktus, nustatantis dėsnius ir kuriantis jų aiškinimo 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os mokslo objektas –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 ir jos reiškinia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a tyrinėja: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lges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id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žinimo proce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dividualius skirtu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į elges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TEORINĖS PSICHOLOGIJOS SRITY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endro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ė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idos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Zoo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opsichologija ir 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PRAKTINĖS PSICHOLOGIJOS SRITY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inikin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Organizacinė psichologija (darb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edagoginė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porto, reklamos, teisės ir k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PSICHOLOGIJOS MOKSLO IŠTAKO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ligija, mitologija, filosof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enovės Rytų tautų psichologinės pažiū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ntikinė psicholo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iduramžių psichologi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os istorija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1778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60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79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340000" y="1905120"/>
            <a:ext cx="6346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rnst Web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ustav Fechn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psichofizikiniu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yrinėji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r Francis Galton  -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ėgino vertinti intelektą, pradėjo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vynių tyrimu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Wilhelm Wund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įkūrė pirmąją psichologijos laboratoriją Leipcige, Vokietijoje, kur pradėjo taikyti mokslinius metodus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RUKTŪRAL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173844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85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90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0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24000" y="404640"/>
            <a:ext cx="7020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man Ebbinghau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ociacijų dėsniai, atminties tyrinėjim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William James -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irmasis psichologijos vadovėlis ,,Psichologijos principai” (2 toma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FUNKCIONALIZ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gmund Freud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Sapnų aiškinim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SICHODINAMINĖ PSICH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159372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5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6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12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11280" y="404640"/>
            <a:ext cx="62755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lfred Bine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heodore Simo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sukuria I-ąjį intelekto te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usų fiziologas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van Pavlov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klasikinio sąlygojimo eksperimentai su gyvūn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ax Wertheimer, Wolfgang Köler, Kurt Koffka –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vokimo tyrim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EŠTALTINĖ PSICHOLOG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1:47:41Z</dcterms:created>
  <dc:creator>vplc</dc:creator>
  <dc:description/>
  <dc:language>en-US</dc:language>
  <cp:lastModifiedBy> </cp:lastModifiedBy>
  <dcterms:modified xsi:type="dcterms:W3CDTF">2007-09-03T19:46:20Z</dcterms:modified>
  <cp:revision>20</cp:revision>
  <dc:subject/>
  <dc:title>PSICHOLOGIJOS ĮVADAS</dc:title>
</cp:coreProperties>
</file>